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4.pct" ContentType="image/x-pict"/>
  <Override PartName="/ppt/media/image1.pct" ContentType="image/x-pict"/>
  <Override PartName="/ppt/media/image31.pct" ContentType="image/x-pict"/>
  <Override PartName="/ppt/media/image25.pct" ContentType="image/x-pict"/>
  <Override PartName="/ppt/media/image12.pct" ContentType="image/x-pict"/>
  <Override PartName="/ppt/media/image1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9.pct" ContentType="image/x-pict"/>
  <Override PartName="/ppt/media/image39.pct" ContentType="image/x-pict"/>
  <Override PartName="/ppt/media/image41.pct" ContentType="image/x-pict"/>
  <Override PartName="/ppt/media/image30.pct" ContentType="image/x-pict"/>
  <Override PartName="/ppt/media/image28.pct" ContentType="image/x-pict"/>
  <Override PartName="/ppt/media/image42.pct" ContentType="image/x-pict"/>
  <Override PartName="/ppt/media/image43.pct" ContentType="image/x-pict"/>
  <Override PartName="/ppt/media/image44.pct" ContentType="image/x-pict"/>
  <Override PartName="/ppt/media/image37.pct" ContentType="image/x-pict"/>
  <Override PartName="/ppt/media/image7.pct" ContentType="image/x-pict"/>
  <Override PartName="/ppt/media/image2.pct" ContentType="image/x-pict"/>
  <Override PartName="/ppt/media/image32.pct" ContentType="image/x-pict"/>
  <Override PartName="/ppt/media/image11.pct" ContentType="image/x-pict"/>
  <Override PartName="/ppt/media/image36.pct" ContentType="image/x-pict"/>
  <Override PartName="/ppt/media/image6.pct" ContentType="image/x-pict"/>
  <Override PartName="/ppt/media/image29.pct" ContentType="image/x-pict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604-83A9-4C2B-BB5F-163C8660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E30-6C89-4562-86C4-D4320FBD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67A-F5A5-4714-B9C1-8B3AAC30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4DA-20FE-4D23-84F5-CA0BCE9C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4D1F-E541-4E65-8957-F5CC0AF6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1D6A-61DA-41EA-8A44-F3162672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B3F7-133B-474A-A673-B2C36D64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A41B-E4A6-45A5-A0CC-2D8D28F7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2232-6C07-42EE-A091-64B4F7C9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13A5-B186-4C58-BBFA-173E6B76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9425-B0BD-4637-9765-60E8E07A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278-8552-4799-A063-3D84CC25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7601-5BEC-4ED1-9727-0096E649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7877-D4E8-4D27-898F-97A1124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510E-0CEF-41D5-BE1E-9F0F1F83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1D7F-EADE-48AF-A82B-34DE0C67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5A9D-21B5-4ACB-B94C-F3610DD3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B46-13FA-4C67-9A6B-BA91C381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0F8-4E85-4120-AABA-4C394913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21A-3229-4467-8C55-2001757A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729-1B95-4584-815F-E7F3485B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87E-3AB1-4767-8D08-DC79D8F0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666-4530-43DA-B399-6F7DF568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5E3-B65C-4B87-96E1-7B053D31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0AC8-BC88-4D51-A3E4-177053560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AE13-2832-4446-91C5-18391C1F2E5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ct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ct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ct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ct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ct"/><Relationship Id="rId5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ct"/><Relationship Id="rId5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ct"/><Relationship Id="rId5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ct"/><Relationship Id="rId5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ct"/><Relationship Id="rId5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ct"/><Relationship Id="rId5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ct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4956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Evaluating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Variable </a:t>
            </a:r>
            <a:br>
              <a:rPr sz="8300"/>
            </a:b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Expressions</a:t>
            </a:r>
            <a:endParaRPr b="0" lang="en-US" sz="8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19320" y="533520"/>
          <a:ext cx="6832440" cy="25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33520"/>
                    <a:ext cx="683244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919080" y="3884760"/>
          <a:ext cx="4880160" cy="25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884760"/>
                    <a:ext cx="488016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038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86040" y="914400"/>
            <a:ext cx="62341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Use these value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Station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1280" y="4419720"/>
            <a:ext cx="6345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a=6    b =3    c =8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066680" y="380880"/>
          <a:ext cx="504360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880"/>
                    <a:ext cx="50436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295280" y="3733920"/>
          <a:ext cx="544860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733920"/>
                    <a:ext cx="54486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28600" y="609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4038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371600" y="228600"/>
          <a:ext cx="3497400" cy="26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"/>
                    <a:ext cx="34974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09600" y="4618080"/>
          <a:ext cx="610056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600" y="4618080"/>
                    <a:ext cx="6100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6576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290600" y="461880"/>
          <a:ext cx="479916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461880"/>
                    <a:ext cx="479916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325520" y="3886200"/>
          <a:ext cx="4067280" cy="25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25520" y="3886200"/>
                    <a:ext cx="40672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962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86040" y="914400"/>
            <a:ext cx="6453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Use these values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Whiteboard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9040" y="4419720"/>
            <a:ext cx="5313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X = 4       y = 3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798480" y="4537080"/>
          <a:ext cx="51246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4537080"/>
                    <a:ext cx="51246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09480" y="0"/>
          <a:ext cx="2602080" cy="25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0"/>
                    <a:ext cx="260208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041480" y="4537080"/>
          <a:ext cx="463716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4537080"/>
                    <a:ext cx="463716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69880" y="649440"/>
          <a:ext cx="2683080" cy="12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880" y="649440"/>
                    <a:ext cx="26830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001880" y="4416480"/>
          <a:ext cx="471780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4416480"/>
                    <a:ext cx="47178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838080" y="685800"/>
          <a:ext cx="406584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685800"/>
                    <a:ext cx="406584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85800" y="3809880"/>
          <a:ext cx="349740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9880"/>
                    <a:ext cx="3497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28600" y="228600"/>
          <a:ext cx="471636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8600"/>
                    <a:ext cx="47163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4724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valuate</a:t>
            </a:r>
            <a:r>
              <a:rPr b="0" lang="en-US" sz="4700" spc="-1" strike="noStrike">
                <a:solidFill>
                  <a:srgbClr val="333399"/>
                </a:solidFill>
                <a:latin typeface="Arial"/>
              </a:rPr>
              <a:t> means to replace the variable with a known value ( a number) and use PEMDAS to simplify.  </a:t>
            </a:r>
            <a:br>
              <a:rPr sz="4700"/>
            </a:br>
            <a:endParaRPr b="0" lang="en-US" sz="47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86040" y="914400"/>
            <a:ext cx="6453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Extra Practice: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Use these values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1680" y="4343400"/>
            <a:ext cx="48304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m = 8    p =2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685800" y="4191120"/>
          <a:ext cx="577548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91120"/>
                    <a:ext cx="57754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838080" y="228600"/>
          <a:ext cx="3252960" cy="26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"/>
                    <a:ext cx="325296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28600" y="4038480"/>
          <a:ext cx="813420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038480"/>
                    <a:ext cx="81342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447920" y="762120"/>
          <a:ext cx="5122800" cy="12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762120"/>
                    <a:ext cx="512280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87600" y="46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86040" y="914400"/>
            <a:ext cx="6453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Extra Practice: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Use these values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53960" y="43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39400" y="4495680"/>
            <a:ext cx="4612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a = 3   b = 5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057400" y="4495680"/>
          <a:ext cx="390528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495680"/>
                    <a:ext cx="390528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438280" y="762120"/>
          <a:ext cx="325296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762120"/>
                    <a:ext cx="32529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09480" y="3886200"/>
          <a:ext cx="33354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33354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762120" y="0"/>
          <a:ext cx="2195280" cy="25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0"/>
                    <a:ext cx="219528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066680" y="4191120"/>
          <a:ext cx="536904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191120"/>
                    <a:ext cx="53690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990720" y="838080"/>
          <a:ext cx="6180120" cy="10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838080"/>
                    <a:ext cx="61801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752480" y="4343400"/>
          <a:ext cx="374184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343400"/>
                    <a:ext cx="374184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447920" y="838080"/>
          <a:ext cx="487836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838080"/>
                    <a:ext cx="48783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295280" y="4191120"/>
          <a:ext cx="561348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91120"/>
                    <a:ext cx="561348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71600" y="990720"/>
          <a:ext cx="5122800" cy="14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990720"/>
                    <a:ext cx="51228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04920" y="4267080"/>
          <a:ext cx="7972200" cy="12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267080"/>
                    <a:ext cx="797220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80880" y="914400"/>
          <a:ext cx="8382240" cy="11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914400"/>
                    <a:ext cx="838224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219320" y="304920"/>
          <a:ext cx="14634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14634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420920" y="254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29200" y="914400"/>
          <a:ext cx="3171960" cy="12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914400"/>
                    <a:ext cx="31719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371600" y="228600"/>
          <a:ext cx="187020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"/>
                    <a:ext cx="18702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3520" y="3657600"/>
          <a:ext cx="3578040" cy="26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657600"/>
                    <a:ext cx="357804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733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371600" y="380880"/>
          <a:ext cx="4635360" cy="26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463536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3886200"/>
          <a:ext cx="5043600" cy="25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86200"/>
                    <a:ext cx="50436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733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429000" y="1828800"/>
            <a:ext cx="32004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7880" y="914400"/>
            <a:ext cx="8382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Group Activity: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Evaluating Expression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914400" y="0"/>
          <a:ext cx="666900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66690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838080" y="5105520"/>
          <a:ext cx="626292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105520"/>
                    <a:ext cx="626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04920" y="609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114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057400" y="533520"/>
          <a:ext cx="317196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33520"/>
                    <a:ext cx="31719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43000" y="3733920"/>
          <a:ext cx="601812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60181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038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0"/>
          <a:ext cx="203364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20336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47920" y="3657600"/>
          <a:ext cx="569268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657600"/>
                    <a:ext cx="56926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962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1:13:41Z</dcterms:created>
  <dc:creator>PA Department of Education</dc:creator>
  <dc:description/>
  <dc:language>en-US</dc:language>
  <cp:lastModifiedBy>Parkland High School</cp:lastModifiedBy>
  <cp:lastPrinted>2010-10-04T18:40:41Z</cp:lastPrinted>
  <dcterms:modified xsi:type="dcterms:W3CDTF">2010-10-04T18:43:26Z</dcterms:modified>
  <cp:revision>42</cp:revision>
  <dc:subject/>
  <dc:title>Language of Algebra </dc:title>
</cp:coreProperties>
</file>